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C2B-9770-4800-A8B2-335182BE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8FE-5BFD-452B-A062-F5CC2BC9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FF4-2E3B-4B37-A256-9F78B779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0E57-679B-4842-83E6-A1B1AACB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6B2-A4EC-4FA4-A8FD-C9C8D5EF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EEB-2DCA-4CBB-8CF7-1E9B2514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B3B-4CDC-4329-BA8A-9290A187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DA34-DD6A-4FD0-90BD-B043CDA4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278A-1AC7-47FB-83A0-7671D7C0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B6E-6238-4D5A-BE81-8893F8CA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7EB-FEA7-47D0-917C-0D9ED3C7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5A3-FDB3-49EC-AB63-9A7E47AC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C695-64C8-4AC8-A0F6-BB42289CC4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311040" y="244440"/>
            <a:ext cx="8521920" cy="2114640"/>
            <a:chOff x="311040" y="244440"/>
            <a:chExt cx="8521920" cy="211464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Friday Forum, 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School of Geography and Environmental Studies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 ‘Journey towards knowledge’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4"/>
          <p:cNvGrpSpPr/>
          <p:nvPr/>
        </p:nvGrpSpPr>
        <p:grpSpPr>
          <a:xfrm>
            <a:off x="1003320" y="2514600"/>
            <a:ext cx="7128000" cy="3743280"/>
            <a:chOff x="1003320" y="2514600"/>
            <a:chExt cx="7128000" cy="3743280"/>
          </a:xfrm>
        </p:grpSpPr>
        <p:sp>
          <p:nvSpPr>
            <p:cNvPr id="45" name="Rounded Rectangle 2"/>
            <p:cNvSpPr/>
            <p:nvPr/>
          </p:nvSpPr>
          <p:spPr>
            <a:xfrm>
              <a:off x="1003320" y="2514600"/>
              <a:ext cx="7128000" cy="374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1115640" y="2709360"/>
              <a:ext cx="6912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O world of spring and autumn, birth and dying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The endless cycle of ideas and action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Endless invention, endless experiment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Brings knowledge of motion, but not of stillnes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life we have lost in liv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wisdom we have lost in knowledge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knowledge we have lost in informatio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Title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000000"/>
                  </a:solidFill>
                  <a:latin typeface="Calibri"/>
                </a:rPr>
                <a:t>Geography challenges</a:t>
              </a:r>
              <a:br>
                <a:rPr sz="4400"/>
              </a:br>
              <a:r>
                <a:rPr b="0" lang="en-AU" sz="4800" spc="-1" strike="noStrike">
                  <a:solidFill>
                    <a:srgbClr val="000000"/>
                  </a:solidFill>
                  <a:latin typeface="Calibri"/>
                </a:rPr>
                <a:t>Thinking about a discipline</a:t>
              </a:r>
              <a:br>
                <a:rPr sz="4400"/>
              </a:br>
              <a:br>
                <a:rPr sz="1300"/>
              </a:br>
              <a:r>
                <a:rPr b="0" lang="en-AU" sz="4400" spc="-1" strike="noStrike">
                  <a:solidFill>
                    <a:srgbClr val="000000"/>
                  </a:solidFill>
                  <a:latin typeface="Calibri"/>
                </a:rPr>
                <a:t>Peter Wilde</a:t>
              </a:r>
              <a:br>
                <a:rPr sz="4400"/>
              </a:br>
              <a:r>
                <a:rPr b="0" lang="en-AU" sz="3600" spc="-1" strike="noStrike">
                  <a:solidFill>
                    <a:srgbClr val="000000"/>
                  </a:solidFill>
                  <a:latin typeface="Calibri"/>
                </a:rPr>
                <a:t>9 August 2013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Australia Post sign."/>
          <p:cNvPicPr/>
          <p:nvPr/>
        </p:nvPicPr>
        <p:blipFill>
          <a:blip r:embed="rId1"/>
          <a:stretch/>
        </p:blipFill>
        <p:spPr>
          <a:xfrm>
            <a:off x="3203640" y="388800"/>
            <a:ext cx="5724360" cy="485640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1476360" y="342900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011400" y="2759040"/>
            <a:ext cx="615492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28760"/>
            <a:ext cx="4103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day we stand in footsteps millennia 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y we acknowledge the traditional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ose cultures and customs have nurtur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ontinue to nurture, this l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men and women awoke from the great d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 honour the presence of these ancestors who resid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imagination of this land and whose irrepre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pirituality flows through all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Jonathon 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083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y journey towards an understanding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 rot="19828200">
            <a:off x="373680" y="2846520"/>
            <a:ext cx="8496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7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 rot="19704600">
            <a:off x="426600" y="1737000"/>
            <a:ext cx="9212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80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36280" y="2014560"/>
            <a:ext cx="808560" cy="459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37000" y="1827360"/>
            <a:ext cx="1054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 rot="1095600">
            <a:off x="1487880" y="2978280"/>
            <a:ext cx="8330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10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 rot="1590600">
            <a:off x="4760640" y="2219400"/>
            <a:ext cx="4118760" cy="45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461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etal and physic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 rot="1893000">
            <a:off x="2315520" y="2971800"/>
            <a:ext cx="3453120" cy="825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431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ial change over time in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 rot="19586400">
            <a:off x="46800" y="3802680"/>
            <a:ext cx="3389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8216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expressions of phenomena 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 rot="870000">
            <a:off x="4606200" y="3013200"/>
            <a:ext cx="440028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533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outcomes of processes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 rot="20805000">
            <a:off x="5383440" y="4748040"/>
            <a:ext cx="3635280" cy="1557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998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w the characteristics of place and space influence phenomena, processes and outc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itle 15"/>
          <p:cNvGrpSpPr/>
          <p:nvPr/>
        </p:nvGrpSpPr>
        <p:grpSpPr>
          <a:xfrm>
            <a:off x="311040" y="244440"/>
            <a:ext cx="8521920" cy="1352520"/>
            <a:chOff x="311040" y="244440"/>
            <a:chExt cx="8521920" cy="1352520"/>
          </a:xfrm>
        </p:grpSpPr>
        <p:pic>
          <p:nvPicPr>
            <p:cNvPr id="66" name="Title 15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ffffff"/>
                  </a:solidFill>
                  <a:latin typeface="Calibri"/>
                </a:rPr>
                <a:t>Where my journey has led – so f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 rot="1371600">
            <a:off x="7136280" y="1898280"/>
            <a:ext cx="1986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4826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nse of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 flipH="1" rot="20620800">
            <a:off x="1338480" y="5532120"/>
            <a:ext cx="31543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22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 among phenomena in a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 rot="402000">
            <a:off x="2403360" y="4413240"/>
            <a:ext cx="37483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798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s between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1960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lassical regional 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extBox 2"/>
          <p:cNvGrpSpPr/>
          <p:nvPr/>
        </p:nvGrpSpPr>
        <p:grpSpPr>
          <a:xfrm>
            <a:off x="1395360" y="4992840"/>
            <a:ext cx="6230880" cy="1450800"/>
            <a:chOff x="1395360" y="4992840"/>
            <a:chExt cx="6230880" cy="1450800"/>
          </a:xfrm>
        </p:grpSpPr>
        <p:pic>
          <p:nvPicPr>
            <p:cNvPr id="74" name="TextBox 2" descr=""/>
            <p:cNvPicPr/>
            <p:nvPr/>
          </p:nvPicPr>
          <p:blipFill>
            <a:blip r:embed="rId1"/>
            <a:stretch/>
          </p:blipFill>
          <p:spPr>
            <a:xfrm>
              <a:off x="1395360" y="4992840"/>
              <a:ext cx="62308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604880" y="5102280"/>
              <a:ext cx="593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Integrated teaching about human and physical features in sp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:\bPics.Work\Pics13\PicsW13.P2\1-J13FF-19C Brews.jpg"/>
          <p:cNvPicPr/>
          <p:nvPr/>
        </p:nvPicPr>
        <p:blipFill>
          <a:blip r:embed="rId1"/>
          <a:stretch/>
        </p:blipFill>
        <p:spPr>
          <a:xfrm>
            <a:off x="-20520" y="765000"/>
            <a:ext cx="4919400" cy="5989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0000" y="404640"/>
            <a:ext cx="4248000" cy="561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444320" y="3244680"/>
            <a:ext cx="1991160" cy="368280"/>
          </a:xfrm>
          <a:prstGeom prst="rect">
            <a:avLst/>
          </a:prstGeom>
          <a:solidFill>
            <a:srgbClr val="bfbfb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ewing 1754-1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aFiles.P\ABS.POP.GIS\2.JOBS\J13_GES_FF\J13FF_WMids.jpg"/>
          <p:cNvPicPr/>
          <p:nvPr/>
        </p:nvPicPr>
        <p:blipFill>
          <a:blip r:embed="rId2"/>
          <a:stretch/>
        </p:blipFill>
        <p:spPr>
          <a:xfrm>
            <a:off x="5076720" y="549360"/>
            <a:ext cx="3673440" cy="4216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4680000" y="51069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Midlands iron industry around 18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 flipV="1">
            <a:off x="4853160" y="566100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898880" y="54770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ron works – note proximity to ca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Glacial Isostatic Adjustment (GIA): A (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sic) </a:t>
            </a: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prim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simple view 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th ro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vi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&gt; Glob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lling critically requ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-steps of spatial distribution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nowledge of how Earth responds to loading: (3d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th structur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notably, lithospheric thickness, lower &amp; upper mantle viscos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reb_peakglac"/>
          <p:cNvPicPr/>
          <p:nvPr/>
        </p:nvPicPr>
        <p:blipFill>
          <a:blip r:embed="rId1"/>
          <a:stretch/>
        </p:blipFill>
        <p:spPr>
          <a:xfrm>
            <a:off x="5410080" y="1981080"/>
            <a:ext cx="3505320" cy="17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eb_deglac"/>
          <p:cNvPicPr/>
          <p:nvPr/>
        </p:nvPicPr>
        <p:blipFill>
          <a:blip r:embed="rId2"/>
          <a:stretch/>
        </p:blipFill>
        <p:spPr>
          <a:xfrm>
            <a:off x="5433840" y="3708360"/>
            <a:ext cx="3505320" cy="1800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 rot="2298000">
            <a:off x="744840" y="4535640"/>
            <a:ext cx="3484800" cy="581400"/>
          </a:xfrm>
          <a:prstGeom prst="rect">
            <a:avLst/>
          </a:prstGeom>
          <a:solidFill>
            <a:srgbClr val="eeece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Poorly underst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ography matters!</a:t>
            </a:r>
            <a:br>
              <a:rPr sz="40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Courtesy of Matt 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7604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acific islands feel the brunt, regardl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orthern Europe feels less than average due to Greenland mel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42880" y="2533680"/>
            <a:ext cx="805824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1717560" y="4762440"/>
            <a:ext cx="569592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957240" y="188748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enland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035680" y="1887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Antarctic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6:58:09Z</dcterms:created>
  <dc:creator>Peter</dc:creator>
  <dc:description/>
  <cp:keywords>D 301;As used</cp:keywords>
  <dc:language>en-US</dc:language>
  <cp:lastModifiedBy>Max</cp:lastModifiedBy>
  <cp:lastPrinted>2013-08-16T03:24:20Z</cp:lastPrinted>
  <dcterms:modified xsi:type="dcterms:W3CDTF">2014-12-15T06:11:17Z</dcterms:modified>
  <cp:revision>110</cp:revision>
  <dc:subject/>
  <dc:title>Geography challenges Thinking about a discipline  Peter Wilde 9 August 2013</dc:title>
</cp:coreProperties>
</file>